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EA7D-CCA5-4EF0-B240-AB3A3A0A9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10F9-F1FE-42A7-B016-44D1D4AC0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7AFF-0BD2-43A7-9F39-6A9267199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9B06-8C16-42DC-9A10-25643F510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9CA18-449A-4A20-B343-6D19125D4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FBEB2-91B5-4140-8FC6-877C29675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C8EE9-6F7B-4EAC-8537-8C328B0C5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0F69E-A63C-46B7-8B0E-6C2100168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3A869-75CB-4185-A198-D9AC14E1F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6AC2D-2E40-4238-A799-E4E1460B7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8533C-5CF6-4196-8A95-C66BADC7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8F1D-4DDF-4AAF-845D-2983EF349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E2020-9707-487D-9DC1-3D38BECE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BD770-435C-43BF-8129-4E0E021C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0C3A9-0C48-4DC0-9727-0BFF461F2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D3E51-034F-4FFC-B051-103DF146C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D194E-464E-43E6-BCEE-1D4199318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86896-CDA0-4C97-898F-242DAF738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DAFCA-B311-462D-AE88-8903D2447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613F6-4D27-4A64-AC3C-D4BF454A7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77DF1-36A9-4633-90EC-7FB64C33B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96926-3240-4197-8494-D7A714656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C6ED-EDF6-42D8-97AC-201701B0C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0263A-CDB2-4848-B1BC-00F0E420A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FF75E-1020-4E51-AE8E-F90B6C33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B3FF3-7232-4750-89CF-4BB196A7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44291-0477-4A1B-8586-44E0A748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3E52C-920C-464F-8AD4-6055C95A8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EC92F-1FA4-49EB-A556-98396B21C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2DDBB-9A39-4C57-909C-AE71C0AC5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5E26C-C1C5-4BCF-A4B6-D91A5EB86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FDED1-1295-4815-B0FF-D0F5B88D6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A2A84-C019-4001-94CC-CF91CE1D8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D020-3232-46FA-84A5-43497A72F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0CA70-C5B3-434E-AA8D-A9BEA0DA9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FEF0E-C46B-4041-A8F0-7293BEFA7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0CF7C-6CBA-4387-A9DE-024656F06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44576-1701-4806-89ED-2EB3AB35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89574-FAE2-437D-9AFA-1A19A1E6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A94BC-CAE3-43E4-BA53-8210668D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5D6EB-B6D3-42F5-80B7-91198AC3A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2CFD7-E778-4B8E-814D-A13EC620E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8D33A-8608-409A-966B-554B3E298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7E50E-527F-410D-9C9D-7A526B4D8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0B1F-F89C-4094-97AD-F9214C39F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6862A-2C2A-4F91-997F-6182A2B2F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841FC-8C7D-420C-A399-023C9CA4B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1E3C3-E40F-4E5B-9FEB-99DB80961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BDF50-9AF3-41B9-8D73-8584D1A9B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9BFA1-D2E0-40F4-9613-24BD0ADC5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C08F1-DA50-4A7C-AE3F-5C3D2287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FF713-2B3E-4AEA-B4D7-9DAE84D1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A897C-87E3-429A-B0DE-02163AA5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B27277-546E-41B2-BB90-AFF3977A3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7BA39-0C17-413D-BB8C-B756F26B6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1D0F-87A5-4E30-941C-94FB27771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7DD84-70C3-48F3-AD0D-229D09B64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60F1-6417-4422-9587-19C5C4CF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2D43-B295-4FC4-B0AE-F49941CC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D0E9-BD07-4C8E-8FF5-2ABB873F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8 Rectángulo redondeado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8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2B608-CFC6-423B-923F-227F0FD23E76}" type="slidenum">
              <a:rPr b="0" lang="es-E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10 Rectángulo redondeado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10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0DC2E-5289-43CF-B784-A38846BA06CA}" type="slidenum">
              <a:rPr b="0" lang="es-E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10 Rectángulo redondeado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10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36ED1-E377-492F-8FFC-242906F7D609}" type="slidenum">
              <a:rPr b="0" lang="es-E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B4BB0-59F5-4877-8A70-645634CA8B92}" type="slidenum">
              <a:rPr b="0" lang="es-E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10 Redondear rectángulo de esquina sencilla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4DD59-A9CC-4605-BD20-9604DD0F0641}" type="slidenum">
              <a:rPr b="0" lang="es-E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500" spc="-1" strike="noStrike">
                <a:solidFill>
                  <a:srgbClr val="ff8d3e"/>
                </a:solidFill>
                <a:latin typeface="Verdana"/>
              </a:rPr>
              <a:t>LA FÊTE NATIONALE FRANÇAISE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79766f"/>
                </a:solidFill>
                <a:latin typeface="Verdana"/>
              </a:rPr>
              <a:t>Alejandro Sedeño Arroy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2" descr="http://www.banderas.pro/banderas/bandera-francia-3.jpg"/>
          <p:cNvPicPr/>
          <p:nvPr/>
        </p:nvPicPr>
        <p:blipFill>
          <a:blip r:embed="rId1"/>
          <a:stretch/>
        </p:blipFill>
        <p:spPr>
          <a:xfrm>
            <a:off x="468360" y="4005360"/>
            <a:ext cx="32400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4 Juill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ise de la Bastil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Fête de la Fédé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4" name="Picture 2" descr="http://revolution.1789.free.fr/image/prise_de_bastille.JPG"/>
          <p:cNvPicPr/>
          <p:nvPr/>
        </p:nvPicPr>
        <p:blipFill>
          <a:blip r:embed="rId1"/>
          <a:stretch/>
        </p:blipFill>
        <p:spPr>
          <a:xfrm>
            <a:off x="539640" y="3284640"/>
            <a:ext cx="3600720" cy="29052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http://upload.wikimedia.org/wikipedia/commons/f/f8/Fete_de_la_federation_panorama.jpg"/>
          <p:cNvPicPr/>
          <p:nvPr/>
        </p:nvPicPr>
        <p:blipFill>
          <a:blip r:embed="rId2"/>
          <a:stretch/>
        </p:blipFill>
        <p:spPr>
          <a:xfrm>
            <a:off x="4427640" y="3284640"/>
            <a:ext cx="41050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autres Fêtes avant 188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Picture 2" descr="http://i31.servimg.com/u/f31/09/01/50/69/fete_n10.jpg"/>
          <p:cNvPicPr/>
          <p:nvPr/>
        </p:nvPicPr>
        <p:blipFill>
          <a:blip r:embed="rId1"/>
          <a:stretch/>
        </p:blipFill>
        <p:spPr>
          <a:xfrm>
            <a:off x="1116000" y="1916280"/>
            <a:ext cx="2646360" cy="33876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" descr="http://bagheera-r11.asso-web.com/uploaded/14juillet.jpg"/>
          <p:cNvPicPr/>
          <p:nvPr/>
        </p:nvPicPr>
        <p:blipFill>
          <a:blip r:embed="rId2"/>
          <a:stretch/>
        </p:blipFill>
        <p:spPr>
          <a:xfrm>
            <a:off x="5003640" y="3284640"/>
            <a:ext cx="2737080" cy="28684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http://www.assemblee-nationale.fr/histoire/suffrage_universel/images/proclamation.jpg"/>
          <p:cNvPicPr/>
          <p:nvPr/>
        </p:nvPicPr>
        <p:blipFill>
          <a:blip r:embed="rId3"/>
          <a:stretch/>
        </p:blipFill>
        <p:spPr>
          <a:xfrm>
            <a:off x="4643280" y="1125360"/>
            <a:ext cx="331344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élébr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Picture 2" descr="http://cache.20minutes.fr/photos/2013/07/14/french-soldiers-stand-in-an-26e1-diaporama.jpg"/>
          <p:cNvPicPr/>
          <p:nvPr/>
        </p:nvPicPr>
        <p:blipFill>
          <a:blip r:embed="rId1"/>
          <a:stretch/>
        </p:blipFill>
        <p:spPr>
          <a:xfrm>
            <a:off x="755640" y="1268280"/>
            <a:ext cx="709308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élébr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Picture 2" descr="http://www.mairie-petiterosselle.fr/images/actualites/feu%20d'artivice%202014.jpg"/>
          <p:cNvPicPr/>
          <p:nvPr/>
        </p:nvPicPr>
        <p:blipFill>
          <a:blip r:embed="rId1"/>
          <a:stretch/>
        </p:blipFill>
        <p:spPr>
          <a:xfrm>
            <a:off x="684360" y="1197000"/>
            <a:ext cx="758808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élébr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Picture 2" descr="http://institutfrancais.pl/culture/files/2009/06/bal14.jpg"/>
          <p:cNvPicPr/>
          <p:nvPr/>
        </p:nvPicPr>
        <p:blipFill>
          <a:blip r:embed="rId1"/>
          <a:stretch/>
        </p:blipFill>
        <p:spPr>
          <a:xfrm>
            <a:off x="755640" y="1268280"/>
            <a:ext cx="7345440" cy="51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La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fête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ationale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ez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les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vois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7" name="Picture 2" descr="http://impressions.planet-bpm.com/wp-content/uploads/2012/08/europa.jpg"/>
          <p:cNvPicPr/>
          <p:nvPr/>
        </p:nvPicPr>
        <p:blipFill>
          <a:blip r:embed="rId1"/>
          <a:stretch/>
        </p:blipFill>
        <p:spPr>
          <a:xfrm>
            <a:off x="684360" y="1700280"/>
            <a:ext cx="3958920" cy="37828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" descr="http://www.etceter.com/images/pill/283/12913-paddy.jpg"/>
          <p:cNvPicPr/>
          <p:nvPr/>
        </p:nvPicPr>
        <p:blipFill>
          <a:blip r:embed="rId2"/>
          <a:stretch/>
        </p:blipFill>
        <p:spPr>
          <a:xfrm>
            <a:off x="5148360" y="4508640"/>
            <a:ext cx="2738520" cy="1692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0" descr="http://www.acercandonaciones.com/wp-content/uploads/2013/09/Fiesta-Alemania.jpg"/>
          <p:cNvPicPr/>
          <p:nvPr/>
        </p:nvPicPr>
        <p:blipFill>
          <a:blip r:embed="rId3"/>
          <a:stretch/>
        </p:blipFill>
        <p:spPr>
          <a:xfrm>
            <a:off x="5219640" y="1197000"/>
            <a:ext cx="2799000" cy="17794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2" descr="http://img39.imageshack.us/img39/4864/12deoctubre01.jpg"/>
          <p:cNvPicPr/>
          <p:nvPr/>
        </p:nvPicPr>
        <p:blipFill>
          <a:blip r:embed="rId4"/>
          <a:stretch/>
        </p:blipFill>
        <p:spPr>
          <a:xfrm>
            <a:off x="5003640" y="3141720"/>
            <a:ext cx="306252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http://www.ilovegenerator.com/large/merci-de-votre-love-attention-132916098992.png"/>
          <p:cNvPicPr/>
          <p:nvPr/>
        </p:nvPicPr>
        <p:blipFill>
          <a:blip r:embed="rId1"/>
          <a:stretch/>
        </p:blipFill>
        <p:spPr>
          <a:xfrm>
            <a:off x="1979640" y="907920"/>
            <a:ext cx="5040360" cy="42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2T16:44:33Z</dcterms:created>
  <dc:creator>vanesa martos</dc:creator>
  <dc:description/>
  <dc:language>en-US</dc:language>
  <cp:lastModifiedBy>vanesa martos</cp:lastModifiedBy>
  <dcterms:modified xsi:type="dcterms:W3CDTF">2014-05-22T14:55:01Z</dcterms:modified>
  <cp:revision>4</cp:revision>
  <dc:subject/>
  <dc:title>LA FÊTE NATIONALE FRANÇAISE</dc:title>
</cp:coreProperties>
</file>